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0D33-B646-4242-9031-AA7682D15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E19A-FDB5-4CF5-9ECA-F32418FED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980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2-</a:t>
            </a:r>
            <a:fld id="{8055018F-818D-4391-ABD4-9D6554A1FB20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2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cing Decisions, Product Profitability Decisions, and Cost Manag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Influences on Pric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85640" indent="-485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three major influences on pricing decision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85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ine pricing problems through the eyes of the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85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etitor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nk about prices as part of the total marketing package and strategic positioning of the company and its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85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s must cover all costs in the long-ru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ortant to know what your costs ar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52 - 45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ing and Pricing for the Long Ru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urate product cost information is essent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many industries, competitive market forces set prices (oil &amp; gas, min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wo Alternative Long-Run Pricing Approach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-ba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71640" indent="-366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do our customers want and what are our competitors doing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-based (or cost-plu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71640" indent="-366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price should we charge to cover our costs and earn a profit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55 - 45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rget Costing for Target Pric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75920" indent="-47592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price is the estimated price for a product or service that potential customers will be willing to pay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475920" indent="-47592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ased on an understanding of customers’ perceived value for a product and competitors’ response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475920" indent="-47592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cost per unit is the estimated long-run cost per unit of product or service that, when sold at the target price, enables the company to achieve its target income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4759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4 Steps in Target Pricing and Target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velop a product that satisfies a customer ne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oose target price based on customers’ valu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rive a targe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form value engineering to achieve targe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58 - 46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76520" y="3171960"/>
            <a:ext cx="5029200" cy="2057400"/>
          </a:xfrm>
          <a:custGeom>
            <a:avLst/>
            <a:gdLst/>
            <a:ahLst/>
            <a:rect l="l" t="t" r="r" b="b"/>
            <a:pathLst>
              <a:path w="3168" h="1296">
                <a:moveTo>
                  <a:pt x="0" y="1296"/>
                </a:moveTo>
                <a:lnTo>
                  <a:pt x="720" y="336"/>
                </a:lnTo>
                <a:lnTo>
                  <a:pt x="2592" y="192"/>
                </a:lnTo>
                <a:lnTo>
                  <a:pt x="3168" y="0"/>
                </a:lnTo>
              </a:path>
            </a:pathLst>
          </a:custGeom>
          <a:noFill/>
          <a:ln w="2844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Incurrence and Locked-In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8800" y="1142640"/>
            <a:ext cx="8221680" cy="164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incurrence occurs when a resource is sacrificed or used up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cked-in (or designed-in) costs are costs that have not yet been incurred but are committed to be sp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3171960"/>
            <a:ext cx="0" cy="20574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5229360"/>
            <a:ext cx="53337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3247920"/>
            <a:ext cx="1600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umulativ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per unit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5305320"/>
            <a:ext cx="62485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577800"/>
                <a:tab algn="ctr" pos="2395440"/>
                <a:tab algn="ctr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R&amp;D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Marketing,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77800"/>
                <a:tab algn="ctr" pos="2395440"/>
                <a:tab algn="ctr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and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istribution &amp;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77800"/>
                <a:tab algn="ctr" pos="2395440"/>
                <a:tab algn="ctr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esign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ustomer Servic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247920"/>
            <a:ext cx="0" cy="19814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3247920"/>
            <a:ext cx="0" cy="19814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3171960"/>
            <a:ext cx="5029200" cy="2057400"/>
          </a:xfrm>
          <a:custGeom>
            <a:avLst/>
            <a:gdLst/>
            <a:ahLst/>
            <a:rect l="l" t="t" r="r" b="b"/>
            <a:pathLst>
              <a:path w="3168" h="1296">
                <a:moveTo>
                  <a:pt x="0" y="1296"/>
                </a:moveTo>
                <a:lnTo>
                  <a:pt x="720" y="1104"/>
                </a:lnTo>
                <a:lnTo>
                  <a:pt x="2592" y="384"/>
                </a:lnTo>
                <a:lnTo>
                  <a:pt x="3168" y="0"/>
                </a:lnTo>
              </a:path>
            </a:pathLst>
          </a:custGeom>
          <a:noFill/>
          <a:ln w="2844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0120" y="53038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Value-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hain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294336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ocked-i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curv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44672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incurre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urv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7390800" y="5305320"/>
            <a:ext cx="152280" cy="838440"/>
          </a:xfrm>
          <a:custGeom>
            <a:avLst/>
            <a:gdLst>
              <a:gd name="textAreaLeft" fmla="*/ 96840 w 152280"/>
              <a:gd name="textAreaRight" fmla="*/ 152280 w 1522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3247920"/>
            <a:ext cx="0" cy="19814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0 - 46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Plus Pric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companies establish prices using either a market-based or cost-based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plus pricing begins with some form of product or service cost and adds on an appropriate mark-up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5% marku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97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$483.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0% marku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81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  $540.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ll costs  $720.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2% marku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806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4 - 46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st-Plus Target Rate of Return on Invest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324080"/>
            <a:ext cx="8755200" cy="37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e approach to determining the markup % is to consider the desired rate of return on the organization’s invested capit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vested capital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96,000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a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rate of return on investment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           18%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b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 operating incom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17,280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a x b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otal expected unit sales of product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00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c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operating income per unit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86.4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a x b / c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5334120"/>
            <a:ext cx="9067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st bas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operating incom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selling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720.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er unit   $86.4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ice $806.40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5800" y="5562720"/>
            <a:ext cx="47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64280" y="5562720"/>
            <a:ext cx="47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4 - 46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3733920"/>
            <a:ext cx="13716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fe Cycle Product Budgeting and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life cycle spans the time from initial R&amp;D to the time at which support from the customers is withdraw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fe Cycle Budge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 revenues and costs over the life cycle of the product or servi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fe Cycle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ck and accumulate costs over the life cycle of the product or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radle-to-grave”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omb-to-tomb”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9 - 47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23:46:26Z</dcterms:created>
  <dc:creator>User</dc:creator>
  <dc:description/>
  <dc:language>en-US</dc:language>
  <cp:lastModifiedBy>John Moore</cp:lastModifiedBy>
  <cp:lastPrinted>1999-06-04T00:42:38Z</cp:lastPrinted>
  <dcterms:modified xsi:type="dcterms:W3CDTF">2003-03-22T13:17:13Z</dcterms:modified>
  <cp:revision>12</cp:revision>
  <dc:subject/>
  <dc:title>No Slide Title</dc:title>
</cp:coreProperties>
</file>